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B9BCE-9963-4A93-903D-09B4BF967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F0837-0EA1-4717-B6D0-33A7B8055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8A5B0-27A3-49CD-9D2A-CDE79222E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0E641-F4C3-41A4-BD5E-9BC6A9C9A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5DF2F-B306-4AB8-9729-6D89F2CF7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A83AE-F49B-4F52-9973-7BE2F6328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3D23C-6282-4638-A966-E19EF505F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45430-AAB9-4A54-B82B-A14B2122E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CAFF3-CD9B-49EA-BA1C-A16D10AE8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85072-E25A-4BE6-B594-0F55190BB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4EF8-3028-4DFE-94F2-4FEDD8691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F6B86-BBCE-4E30-B8E6-3C9D2994A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433AD-2208-47F7-9643-05ACEFBBA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1BCF-1E79-4975-A634-2F0FFE61F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F09D2-E181-4CFE-AEC9-F5653C781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F6D65-3D9B-4461-9C28-7E7989BD5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2F68F-7569-460B-99BD-AD42C3A7A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146E-92D3-4B9A-A4A4-A2C18E5F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AD5D-EB8B-4DBA-9055-E9B4A0EBA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89F19-C95F-4107-9545-53A8DB771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7A89-CABE-4DEB-A89A-C0153D5F7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2C92-F26A-4079-9316-28F50205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6D06-17DD-4360-A62C-2DEBB282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C26C-34E8-41B7-AC19-F90755275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3370-A419-4D40-8625-908E543CC53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BC2E-3B9F-45B3-811E-6238FF5F367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7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7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85000"/>
          </a:bodyPr>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of a topic/concept that you might teach your future students one day.  </a:t>
            </a:r>
            <a:endParaRPr b="0" lang="en-US" sz="2800" spc="-1" strike="noStrike">
              <a:solidFill>
                <a:srgbClr val="ffffff"/>
              </a:solidFill>
              <a:latin typeface="Tahoma"/>
            </a:endParaRPr>
          </a:p>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your notes, write a complete learning objective consisting of: </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r</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able student behavior</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erion</a:t>
            </a:r>
            <a:endParaRPr b="0" lang="en-US" sz="2800" spc="-1" strike="noStrike">
              <a:solidFill>
                <a:srgbClr val="ffffff"/>
              </a:solidFill>
              <a:latin typeface="Tahoma"/>
            </a:endParaRPr>
          </a:p>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 your objective with your peers.  </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83000"/>
          </a:bodyPr>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79000"/>
          </a:bodyPr>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4-07-29T19:55:03Z</dcterms:modified>
  <cp:revision>287</cp:revision>
  <dc:subject/>
  <dc:title>Slide 1</dc:title>
</cp:coreProperties>
</file>